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0D9-0EAB-4986-A6EF-D42B4DBF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796-C5BB-457F-B8D2-6C4B1637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58171-E3BB-4CDE-9480-511D01C3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1A02F-14B7-4BD2-ABE6-96DB8654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90C36-590B-4B0C-B4FE-C602B556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36FFC-3B0A-4F20-BA82-2E1E82A7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18AF4-939A-419E-A0C3-8E60E858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F65B4-33C5-4249-A342-304A5F7E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5F5E6-8807-4DF0-9707-461F6932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6C87A-55A0-4311-B0FD-3B6ECF67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86FC5-1AAF-417D-BB89-F2FD278D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56259-772E-4783-A2BF-01C12429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495-384D-482F-AF25-0735B69C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59AB5-4F4A-42FB-AEB1-DF9E087B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5A9B3-F13D-46D7-8F04-1EA676DB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739BF6-5A3A-4B50-BC0A-2EC7F34D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23EF7-F560-42FF-8601-5680C0C6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09BCA6-BF44-4E07-A98B-804D33EC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1182D-549D-4B69-B6CF-21D71A9F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B9DFB-9ABD-4DA8-BF13-D3156607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5E0B21-131F-40B4-B7FB-6BE396D5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F1755-E78B-469F-A32C-9520AAAE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71ED3-A4B9-4E1B-9768-97D71E0F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686-D1CA-4D2E-BA8F-7FBD7123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89838-9A21-4E36-A4BF-158F7C42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DEC36-32A2-4092-89AF-8DF10DF6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DEB1C-B553-413E-81C6-25208344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5E751-C56B-44FE-933F-4DF68111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66EB6-A2C1-4BBF-AD54-02404437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62527-3E31-4FE3-A8D5-EB0C73B4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0849B-7CAF-4BF2-8252-47682F45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88112-3B7E-42B1-9EDF-20FD6DA5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4D08D-3C9B-4DA1-BB13-7988F42A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10A17-EB01-4A5B-B8F2-EA654CA5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21B8-F324-4F14-892B-0BDFA59A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06E3E-69B0-4D49-A8DC-B909B5BF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6DDE8-5A62-4F7D-BCF9-32A23F8A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F20FD-C91E-4789-BD75-C84E4F18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AA5F8-1FCC-475D-87AF-D304AAD5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8B588-C5EC-4DF8-AA47-3FEF9FB2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D4A12-4CCE-4891-AC59-6750D68D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CFA65-68B7-4906-8A0C-6DE7DA97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99A0C-2EBD-4432-94F2-FB4554A3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20D2B-3EE5-4F4F-85F3-7E35A927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D16D0-C4B1-4F4E-A1C6-94318660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1DF9-1CCE-4721-BD09-395A98D6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08F54-3C26-4E60-99C4-C036BA5B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E39CA-2C72-4062-9BE6-41D601E9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F2F2D-B3A8-43D0-8360-0212D20F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912BE-9218-45E2-940D-99A977DB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6B60B-9665-4C67-BB57-0CCEE892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68D52C-569D-43B4-9C6C-9692357D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4BD99C-F61A-4C43-9EC2-4EA83902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E53990-6652-4306-B147-35EB4D33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DE5002-73F5-4FC1-8E85-11163876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A21E60-F587-428B-9D23-D4C3894F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F706-306E-4F53-8161-E270768A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02C7AD-E73A-4746-8717-1263B91A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92EEDF-B8C3-494F-BF3D-E545594B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595A21-CBD1-438E-883E-A3489450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ECD450-F66B-4077-A9D4-016723F6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F15DDA-C223-48BF-B66E-D0D95782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A879C5-508B-4169-8089-A6AC9316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FF771F-AC82-4654-8606-E9350E0D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C08630-68DD-4E40-90D1-15124008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77B85B-333C-4E36-92AC-701895CB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A2446D-06FA-4CD2-8484-3EB6B4C2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25CB-B416-498E-AE32-2716BECD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F62D61-9E74-447C-B666-E4AAE058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35BCE8-F4D3-4DB0-A1BC-A9BE738D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421340-6138-4E11-85FB-B4087223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AD4CCC-BC1C-4591-9C64-BC466BD7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225967-A805-4FC4-B110-BCD84233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34BF3A-5EBE-457D-B64E-F9533DC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DE1765-5AAD-4801-871C-7FF45119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061BB4-6BAC-499E-9EDC-9D513B19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60E170-6E46-4378-BED6-D1432F5C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7A2C72-47C0-4EE9-A4D7-131681D2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63CD-67FE-4B65-9378-A6425D26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A458C8-6561-4036-8B9E-E8843F6B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9BFD02-5586-4BD8-811C-29CEC749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2619B7-2B56-43A7-8EAC-FAA027FB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FB532-FBE7-438A-8E8C-31524750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398FCC-45B5-4FAC-936A-07627143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B3A56F-A626-4109-84E2-4D31C4D2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12829-19B6-4706-B586-ECFB9A8F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B09BE-2867-45FA-AEC4-11087834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141AB7-C4EA-4B1D-BA23-5A3B1574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7E887-D93A-4CFC-82B6-5012BF5F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BB27-45F7-4F09-A40D-6A661C69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15B6C-47CE-47F4-B61A-9DEB2671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4604-0F85-48AF-A09B-6F0E2DA4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585-E8BA-4F4E-8AD4-B0B547BF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5E41-7616-4118-8614-47663CB0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8E76-17C6-4840-8173-39ACE747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F9B4-AD11-4725-B3CC-BB7B732D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8381-4920-434C-AE69-406E173C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24CB-C59E-47F2-9EA9-FD62DA28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08FD3-0EDC-4A5D-81F3-A9EFE2AF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3A67-0704-47F6-AF29-D8ADDE78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95DF0-AD9A-4F96-98B2-37027229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9AB72-76EB-4210-95B8-D2C40D9D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8A30E-0231-47CE-A09C-BD7121B2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A6B6-1E80-4A47-9A4A-54C33852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48B5F-C275-4767-9D9C-E59C65F1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0F22B-3971-4A83-B5B7-7CD7DFDB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8CCBC-D126-4320-A5C4-299F9E26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B4382-883E-4DBE-B5AD-9A4EFEE3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42205-10A8-4D3C-BE5D-EBEB7857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149F-C540-42FA-B0A9-764CDDE4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4EFEB-E297-4857-A308-FBC565F8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724CE-5E1B-45C4-B9FA-E9757914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3FE77-BEA8-40BB-B890-D7022720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C99DD-A053-4AA9-9BC0-1D27429F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A7B-6A21-4932-89CA-A5E8D3EA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A0991-A2FD-41F5-9B55-8766155F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3CF5F-7C8E-4F75-991D-9365A3DF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259DD-B2B5-45D8-911E-B75DDF77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608B7-4D39-4C05-8611-AC0DEE70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84FCC-160E-479F-99EC-C7B1E396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C31F8-2AB6-46F0-BBAD-DD8F0E6B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800C9-1DA3-48B6-ABE3-5509A869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0727D-5C92-4E43-BA77-21B54CE9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AF55D-22BB-423E-9762-9B5F159E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E1B49-8BA2-41A8-9C2E-3EC147CF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D37-4D3D-492C-94FA-52008C3E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211C2-7A47-44F2-8DE7-A47C5372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556F2-8AC8-40F2-8493-D5499E6D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C1E0C-2362-4A7B-9FB7-C3A52A37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338DE-9C88-4F01-B79A-7E5327AC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57361-A420-4FAC-954D-580B003C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B458C-0E0E-4BB6-AB07-FE67308C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33198-BA34-4A0A-BFB9-05C5C0C7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B37F8-705A-4ED6-838B-4D9B4B73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27C43-A5AA-4EED-A422-5F523322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8825E-7621-46DB-B642-F62E7ECE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E36-32B0-439D-A36B-14B8FA7D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99481-377A-4A39-91DA-D2F96BA2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CF962-1F95-41CC-90F0-E71FE27C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B278F-DFEA-4578-9DE7-A2EC8938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8E30C-0540-403A-ADAF-AA9C5BFF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4EDC1-C69C-4406-B1BE-F1A1FA55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69B62-2CDB-475F-9417-63B24646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1B366-CFB2-4A4E-9BCF-DE8972DE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91A77-5F1F-4C08-A211-598DBC4B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08925-65AD-49D7-B4E5-F1CD781C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5DA48-188F-45BF-8752-4F353760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5E3-FFC5-4CBC-A132-88119DA5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83489-D77D-4FDC-BEA6-19436D2F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9FF30-1027-44F5-B88C-FE1A5BD6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9F697-483C-4062-9075-9C419614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D26FB-855D-4B6B-8B73-BBE94277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4EC3D-1133-4728-A4BA-4A22BC10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5C968-B2A9-4B57-A000-71BF3530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3E887-692B-480F-A06D-A0BE7B91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32D55-ADFB-49FC-A689-9228DC78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CDBDD-79C8-4381-8A1B-FDEDCEA4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BC0C4-DCF5-44A9-A25D-29A14428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8A9-87D3-4A17-8B44-D6CD6AB6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E2A75-5B1B-45F4-90FA-0E002867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541F3-89CE-4637-B34F-F69932D3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4CA70-EA13-4F99-B471-B2C556F0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059E5-656E-4773-8E9C-03B76432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38921-B26D-4568-9DA2-CF647D5E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FB8E26-29A1-485F-A23E-20B9E346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0C8E55-E044-4E15-B3F6-F3D7559B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B02C27-F954-4D0F-A1A4-C0768322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BDBAEE-8764-47E6-BDCB-CBA3D0B7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FB3362-56B0-4231-842D-978EE7E6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15B-9903-4382-937E-8AAF2686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D0FDC0-0349-4A9E-8F8D-1D6D5542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D7E581-6305-4370-A4E2-0FCFCCF3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A25B95-F933-4EC4-B2E8-C0D561F7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E501C9-0040-4158-92E8-8C4AFED1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FF6D74-734A-45CD-82E3-00D84FE1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68838B-89D7-45D4-8EB3-C8E14117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1A7A83-32A9-4895-AB26-F8774A57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D1ECF-BC48-40D4-A020-FAB94871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8D265-1482-4DB9-99BE-91EAD1B0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799D2-4A93-4EE1-9578-E671B992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3326-C75C-43C5-81E6-ADA2BBC9A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757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6014-C4F5-42A0-B829-2A1A326D2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014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C2DD-AF63-48FF-ACA2-4554A5C44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7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27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7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28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0F2A-692C-454C-AA68-7269278B77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33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33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33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4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C274-BCA4-4CC4-A97E-0F39A09025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F3B2-B120-4732-AC01-6362CF9FDB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9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9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4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4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dt" idx="4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ftr" idx="4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3E8F-9E5C-4C90-836F-42DAC17DA3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2453-94D8-4D27-9BC8-9E31C9D64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823D-9462-48D2-A989-E59CF5FE5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5AC6-E279-4EF3-BE40-410D8DF601F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CBC2-8354-4DB6-9A05-BFF76DAFA35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4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4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6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D9C0-76C9-4A74-B298-3FAD81486C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4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4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5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1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A64F-DF0D-4881-9BEA-1C0274F4E46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3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9595-1506-497B-B003-5B863EED0BA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9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CDFC-DFE9-4EF2-903B-ABFD065CDB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a Mansi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Arial"/>
              </a:rPr>
              <a:t>ó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David Celat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1" name="" descr=""/>
          <p:cNvPicPr/>
          <p:nvPr/>
        </p:nvPicPr>
        <p:blipFill>
          <a:blip r:embed="rId1"/>
          <a:stretch/>
        </p:blipFill>
        <p:spPr>
          <a:xfrm>
            <a:off x="609480" y="2516040"/>
            <a:ext cx="7848720" cy="3899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s un jard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Arial"/>
              </a:rPr>
              <a:t>í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. Es grande y magn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Arial"/>
              </a:rPr>
              <a:t>í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c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7" name="" descr=""/>
          <p:cNvPicPr/>
          <p:nvPr/>
        </p:nvPicPr>
        <p:blipFill>
          <a:blip r:embed="rId1"/>
          <a:stretch/>
        </p:blipFill>
        <p:spPr>
          <a:xfrm>
            <a:off x="533520" y="1397160"/>
            <a:ext cx="8076960" cy="5284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s una mansi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ó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n. Es muy grande y moderna.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7848720" cy="3899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s una cocina. Es estupenda y fabulos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696080" cy="5133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s una sala. Es bella y lujosa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924680" cy="5280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6" dur="2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un b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. Es pequ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y nuev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267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s un cuarto. Es lujoso y estupendo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6" name="" descr=""/>
          <p:cNvPicPr/>
          <p:nvPr/>
        </p:nvPicPr>
        <p:blipFill>
          <a:blip r:embed="rId1"/>
          <a:stretch/>
        </p:blipFill>
        <p:spPr>
          <a:xfrm>
            <a:off x="228600" y="1461960"/>
            <a:ext cx="8763120" cy="5160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s un comedor. Es magnífico y increíble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8" name="" descr=""/>
          <p:cNvPicPr/>
          <p:nvPr/>
        </p:nvPicPr>
        <p:blipFill>
          <a:blip r:embed="rId1"/>
          <a:stretch/>
        </p:blipFill>
        <p:spPr>
          <a:xfrm>
            <a:off x="1295280" y="1627200"/>
            <a:ext cx="624852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s un patio. Es impresionante y asombroso.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609480" y="142884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s un garaje. Es moderno y grande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4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68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68" fill="hold"/>
                                        <p:tgtEl>
                                          <p:spTgt spid="15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68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68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2:56Z</dcterms:created>
  <dc:creator>celatkadav</dc:creator>
  <dc:description/>
  <dc:language>en-US</dc:language>
  <cp:lastModifiedBy>celatkadav</cp:lastModifiedBy>
  <dcterms:modified xsi:type="dcterms:W3CDTF">2013-04-04T15:36:47Z</dcterms:modified>
  <cp:revision>5</cp:revision>
  <dc:subject/>
  <dc:title>La Mansion</dc:title>
</cp:coreProperties>
</file>